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4CAB-A6A5-4BC0-8945-E6705FD91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35DD-EBE2-46DD-97F7-6708A2E2FEE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DC58-0892-407E-9B60-B290F9D6773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is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BE4B-CB05-4D8F-990C-C060144857C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0D97-DE07-4D39-A2F2-6D39023E971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21F5-7CAE-47A7-A080-789FD7EEE7F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DABC-6288-468A-A5D0-FDB4D1C4E9B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research about talk about strategies vs. talk about the bo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E99D-DBE7-4A02-AFB3-0EE0F87BA19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865-B041-488C-A06D-38C3E97B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DE2-18DE-4993-B0E2-4084E9C6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397-86CA-478E-90DD-456780EC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035-064A-425C-90A1-7E2D75B0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7A48-6846-470D-A6ED-D91E2F59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EBCE-0E42-49B8-803B-8BA2B298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DBA5-53E2-46CF-A1DA-53BDB11F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C91C-70C0-47B8-853C-C1362F7D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AAB2-F1A0-4E73-A8BB-2586C07E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C5DB-0AC0-42C8-B3C8-DA3099BE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DDBA-AA7E-4604-9EA1-CAD76B09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1FC-DD48-4072-93BD-5CB8869A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E359-ECED-4B83-82E3-10068E68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247D-F895-436F-A73A-6693174A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D13B-C43B-4909-8E06-53E0B251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2D64-93F0-4972-B1B4-F33140E0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1408-C986-4140-B542-1DCAC26F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74C-5E3D-4528-93A6-A9C90EA9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9FE-FF3E-4EF2-B199-8A3F80B2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1A2-5C6F-495B-93E1-1C3113BF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F8D-F8A1-4904-823E-1E196D28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348-E16F-4803-9C51-452E92ED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488-5F84-402C-A4E5-BBC4BE5B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FDE-3A3D-493C-B103-66736AE2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3441-23FC-45A6-9254-AB3C66DB3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1F55-B36C-4BC3-95F4-B93309C23999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icture Books, Conversations, and Embedded Strategy Instruction for Predicting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 Strategy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? (name it and define it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 important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do you use the strategy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 useful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remember Explain &amp; Define; Notice and Apply from your textbook as the MODELING phase of strategy instruction)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Why do good readers predict?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gives a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or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build internal tens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anticipate a satisfying en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onnec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prior knowledge &amp; new inform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edictions serve as guidepost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e monitor our predictions from time to time to see how they hold up (That’s what I thought! -- Wow, that’s not what I thought!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oblems with 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’s predictions are often inaccurate, because of the text or the reader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 underestimate the importance of text features in informational tex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ny children don’t take the time to predict properly and never revisit to solidify or revise their prediction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r Teaching Goal: Help students make predictions that ar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ccurat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eaningfu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Define… Explain…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Notice… Appl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efine and Explai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is a prediction different than a guess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od, so what I hear you saying is…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let go a little to facilitate students monitoring their strategy use)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ook at the tally sheet - Once you predict, you’re going to think about what you used to make that prediction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en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do we predic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e the Predicting Tally Sheet (p. 204) but be careful about being too prescriptive!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Title, headings, cover, pictures, cap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Ask ques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Knowledge of the topic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Knowledge about the author/genre/book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5. Text organization &amp; structur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6. Past events in the tex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7. Meaningful conne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8. Knowledge of the charact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133720" y="602784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000"/>
                </a:solidFill>
                <a:latin typeface="Arial"/>
              </a:rPr>
              <a:t>Now, I will model and ask you to notice and apply with </a:t>
            </a:r>
            <a:r>
              <a:rPr b="1" i="1" lang="en-US" sz="2400" spc="-1" strike="noStrike">
                <a:solidFill>
                  <a:srgbClr val="320000"/>
                </a:solidFill>
                <a:latin typeface="Arial"/>
              </a:rPr>
              <a:t>Once There Was a Bull.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otice &amp; Apply (Activities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Title…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Anticipation Guide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 (p. 86-see next slide)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Topic/Vocab…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Predict-o-gram 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(see next slide)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Questions..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Sticky Note Questions 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(p. 88)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Questions..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Preview, Read, Question 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(p. 88)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Author/Genre…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Story map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; genre features (p. 93)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Predict what you’d find in types of expository texts: ABC books, magazines, newspapers, ads, brochures, invitations, menus…fairy tales (e.g., Cinderella)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(All ideas for your own lesson plan)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nticipation Guide: </a:t>
            </a:r>
            <a:br>
              <a:rPr sz="44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Tuck Everlasting by Natalie Babbit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fy major themes – write several statements – students discuss &amp; react before reading and then revisit af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120" y="3510000"/>
          <a:ext cx="7543800" cy="2663640"/>
        </p:xfrm>
        <a:graphic>
          <a:graphicData uri="http://schemas.openxmlformats.org/drawingml/2006/table">
            <a:tbl>
              <a:tblPr/>
              <a:tblGrid>
                <a:gridCol w="914400"/>
                <a:gridCol w="1218960"/>
                <a:gridCol w="5410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t would be wonderful to live forever.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should never do something that your parents have forbidden.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ople should have the right to sell products even if they are harmful. 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ome secrets are so important that it is acceptable to do anything in order to keep them. 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edict-o-gram: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row Boy by Tara Yashim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aro Yashima use each vocabulary word? forlorn, interesting, trudging, imagine, graduation, attendance, admired, announced, charcoal, rejecte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3581280"/>
          <a:ext cx="7086600" cy="256068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etting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Where the story took plac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ople in the story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roblem or goal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of th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ain character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olution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o the problem or </a:t>
                      </a: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ttainment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of goal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Understand ways that you can cultivate conversations about books in your classroo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Practice “having a conversation” (starting one and building on others ideas) with fiction and non-fi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Experience a shared reading that models how to make predictions using the Metacognitive Framework of define, explain, notice, and apply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uesday Oct. 5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Groups): see wikispace for link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earse (1992) Fairy tale connections in Children’s Storie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inderella Around the World Telecollaborative Project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ook Activity #2 - part for homework and part in class - see handou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ursday, Oct. 7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Read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trategy Book: Making Connections; Block &amp; Israel Article –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ook Activity #2 du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ursday, Oct. 14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ook Activity #3: Strategy Script due (pretend it’s due for class on Oct. 12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Quiz #1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Understand ways that you can cultivate conversations about books in your classroo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Practice “having a conversation” (starting one and building on others ideas) with fiction and non-fi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Experience a shared reading that models how to make predictions using the Metacognitive Framework of define, explain, notice, and apply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roups for Cinderella Cla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1: Jessica, Alyssa, Michael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2: Amy, Lindsey, Alys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3: Chelsea, Kelsey, Erik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4: Katie L, Sheila, Kriste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5: Erica, Meghan, Tabith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6: Amanda, Mandy, Katie S, Aime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Encouraging Talk About Books: Cultivating Conversation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905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What does a conversation look like?” (Chapter 5) 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alk about something that’s interesting (e.g., roller coasters!)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Involves full participation of people involved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Reacting and building on one another’s idea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People look interested in other peoples idea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4 ways to scaffold discussion (Langer &amp; Close, 2001)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apping understanding (What do you already know?)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Seeking Clarification (What questions do you have?)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Inviting Participating (What role do you want to play?)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Orchestrating Discussion (What structures can I provide?) 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How might you “orchestrate discussion” in your classroom?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teaching structures can you use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Orchestrating Discussion 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(while gradually releasing responsibility)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Read-aloud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model thinking/reacting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Shared reading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and reacting) without question and answer quiz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Guided reading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d reciprocal teaching (predict, question, clarify, summarize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dependent reading &amp; respons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, reflect, respond, and rap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iterature circles and textbook circl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ower of Literature Circles 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(when done well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construct their understanding of the text through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teraction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ith peers and the teacher, as well as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haring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nterests them about the books they read”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icky notes and active reading are useful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ee chart on p. 50 for ideas, but not as prescriptive as your book suggests) – the point is to talk about the book, not the strategies!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iterature circle roles guided by “topic/response area” rather than “strategy” might be a better techniqu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ultivating Convers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ach how to START a conversatio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tems: How come…Did you know…I don’t understand…I can’t believe…I love this part…This reminds me of…Can you imagine…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aching how to BUILD on a conversatio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tems: Are you sure…I thought that meant…Why do you think the author chose to…Can you show me…What do you that looks/feels like… Let’s get back on track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Use the question prompts to guide you in STARTING a conversation and BUILDING on other’s thoughts, ideas, and reactions.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ture Circle: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My Father’s Drag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xtbook Circle: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Gorilla Rescue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odeling how to apply a reading comprehension strateg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o, how can we work discussions about strategy use appropriately into our modeled, shared, and guided reading instruction in ways that help students gradually apply those strategies when they read independently??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0:50:16Z</dcterms:created>
  <dc:creator>Julie Coiro</dc:creator>
  <dc:description/>
  <dc:language>en-US</dc:language>
  <cp:lastModifiedBy>Julie Coiro</cp:lastModifiedBy>
  <dcterms:modified xsi:type="dcterms:W3CDTF">2010-09-30T03:11:50Z</dcterms:modified>
  <cp:revision>191</cp:revision>
  <dc:subject/>
  <dc:title>Metacognitive Strategy Instruction to Enhance Reading Comprehension</dc:title>
</cp:coreProperties>
</file>